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49B-C7BE-42AE-8F59-8C06C99F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4ED-603E-4230-9CDA-75B14DD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AF8-3D11-42C7-870D-AB21FE75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7DC-B698-43BC-801B-D120E06A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5991-2396-4811-A9FC-40CCDC2F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4DBF-AE68-47DF-A9D1-E49253B9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87F6-2E2D-4861-9F2E-06DE2452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7177-F44E-4B81-B083-508BD1EE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A79-7A61-44A3-91BE-4A1C0E70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D3C0-FC13-4937-8301-21B9A7A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C164-AA33-4692-BF92-F164CF2E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F74-C956-4FAE-A162-469F7C0F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F80F-CEAE-4D2C-B558-D963C87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1DB0-DF43-4404-AFDD-105E6F2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A66C-3F79-45D4-9A75-3A537D70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AD93-8029-4691-ADFD-79B4D3DF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B9CD-FE16-4982-A917-E193CDD9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D07-2B88-481F-89A4-7E1C8D5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AA7-836C-4CD9-AFB6-8840DF1B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4DF-F45D-4BD4-B07D-E5C91D5E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C30-F725-4C8C-80A8-D56E43F2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6AB-63AF-4AAE-8914-B85E8C6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80A-E748-4139-B51D-CC88B666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D87-CA70-4329-B3DE-F24EEBFC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0A90-BC87-4030-A71B-EED3EAE32CD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19AE-5F44-47DF-8E78-5A31380B964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 Fun and Excit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y Four-Juni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-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-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-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-Top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 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-The 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dience-The man in the poem, Homer’s character in the cli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-Poem, follow Poe’s example. (At least 6 line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-Were you real or in the man’s min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uss writing better senten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uss Tone/M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he 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tch Simpson’s Clip of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AFT homework assign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 was so tired i wanted to lay down my dad he suggested that I ate in an hou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new employee was requested to do there things first complete the Form second submit a reference and third he was asked to mail a resume to the personnel offi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alogies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rosaic : exciting :: _____________ : creativ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2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____________: novelist :: Emily Dickinson : Poe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tter Sent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she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ne/M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Tone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author’s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attitude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, stated or implied, toward a subject. Some possible attitudes are pessimism, optimism, earnestness, seriousness, bitterness, humorous, and joyful. An author’s tone can be revealed through choice of words and detail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Mood 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climate of 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feeling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in a literary work. The choice of setting, objects, details, images, and words all contribute towards creating a specific mood. For example, an author may create a mood of mystery around a character or setting but may treat that character or setting in an ironic, serious, or humorous to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id the chicken cross the road writin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dgar Allan Po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nown for his mystery stor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e of the first short story writ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idered a part of the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Romantic Move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Th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Raven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ings to think about: Page 25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poem is an example of a narrative poem, what do you think this mean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poem uses alliteration, what does this mean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one word does the raven repeat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 your opinion what is the most haunting image in the poem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is the narrator’s emotional state at the beginning of the poem? At the end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does the last line of the poem impl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ings to think about from 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The Simps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tone/mood of the cl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es this differ from the poe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you agree with Lisa that it is a creepy poem, or with Bart that it is bor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2:38:16Z</dcterms:created>
  <dc:creator>Angie</dc:creator>
  <dc:description/>
  <dc:language>en-US</dc:language>
  <cp:lastModifiedBy>Angie</cp:lastModifiedBy>
  <dcterms:modified xsi:type="dcterms:W3CDTF">2009-08-24T04:12:36Z</dcterms:modified>
  <cp:revision>3</cp:revision>
  <dc:subject/>
  <dc:title>English Fun and Exciting</dc:title>
</cp:coreProperties>
</file>